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6.gif" ContentType="image/gif"/>
  <Override PartName="/ppt/media/image2.jpeg" ContentType="image/jpeg"/>
  <Override PartName="/ppt/media/image25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31B-8E7F-47F2-8D81-0A3BDE01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A5C-9233-4456-896A-556F343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F71-E098-4B2D-A478-52E39794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EAF-5D8D-4155-A498-8DA82DA7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B63A-5928-4D26-9756-3C942CAB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5E05-FFF8-433D-8C8F-CCEDA338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7C71-0327-45F4-967D-DA152355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7D83-AD8E-439A-A2FF-6722E2BA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8510-83C3-4079-B890-56DBDEEF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B768-4428-43F6-BC95-0C10D895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AE26-5690-4807-B8A9-75E0626E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A67-91B1-4969-A7A4-4331711D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C885-463D-4053-B7BC-2C8B9328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85A-61C6-4D6A-9011-7631A72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F15B-84A7-4879-9ED6-50AAC68A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F3B0-5CA7-49D5-97A9-A2B0AA85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2F5B-AA7A-4303-86A3-A2815B72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B11-EE9C-458C-BE7C-FFF667EC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D32-67D6-4EDA-B77B-FFF9559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FD3-6AE5-4619-A42A-84C2FD9D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CF8-F184-486F-8754-C159FF1B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B49-BA88-46D2-AD88-B3A0D81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D98-8396-480D-B4C3-40902A1D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E6A-D068-4CA3-9C35-3439D86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5833-1B15-4972-92A5-D88469F573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D844-0E7F-4FE8-A267-6B8EE7D0A8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лассификация профессий Е.А. Климова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ам тру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1"/>
          <a:stretch/>
        </p:blipFill>
        <p:spPr>
          <a:xfrm>
            <a:off x="7380360" y="5229360"/>
            <a:ext cx="129528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14396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Изыскательские (И)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221304"/>
                </a:solidFill>
                <a:latin typeface="Times New Roman"/>
              </a:rPr>
              <a:t>группа профессий направленных на выработку новых знаний о предмете труда, способов воздействия на него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608960" cy="18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рудия труда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3200" spc="-1" strike="noStrike">
                <a:solidFill>
                  <a:srgbClr val="221304"/>
                </a:solidFill>
                <a:latin typeface="Times New Roman"/>
              </a:rPr>
              <a:t>это все то, посредством чего работник оказывает воздействия на предмет труда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491920"/>
            <a:ext cx="739296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ные, механизированные инструменты и приспособления (лопата, кувалда, молоток, микроск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шины с ручным или ножным управлением (наличие рукоятки управления, измерительных устройст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j0284031"/>
          <p:cNvPicPr/>
          <p:nvPr/>
        </p:nvPicPr>
        <p:blipFill>
          <a:blip r:embed="rId1"/>
          <a:stretch/>
        </p:blipFill>
        <p:spPr>
          <a:xfrm>
            <a:off x="7524720" y="2133720"/>
            <a:ext cx="117144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j0283515"/>
          <p:cNvPicPr/>
          <p:nvPr/>
        </p:nvPicPr>
        <p:blipFill>
          <a:blip r:embed="rId2"/>
          <a:stretch/>
        </p:blipFill>
        <p:spPr>
          <a:xfrm>
            <a:off x="7164360" y="508464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5376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- </a:t>
            </a:r>
            <a:r>
              <a:rPr b="1" i="1" lang="ru-RU" sz="2800" spc="-1" strike="noStrike">
                <a:solidFill>
                  <a:srgbClr val="221304"/>
                </a:solidFill>
                <a:latin typeface="Times New Roman"/>
              </a:rPr>
              <a:t>автоматизированное, автоматическое оборудование (станки с программным управлением)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Ф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– </a:t>
            </a:r>
            <a:r>
              <a:rPr b="1" i="1" lang="ru-RU" sz="2800" spc="-1" strike="noStrike">
                <a:solidFill>
                  <a:srgbClr val="221304"/>
                </a:solidFill>
                <a:latin typeface="Times New Roman"/>
              </a:rPr>
              <a:t>функциональные средства организма человека. Это проявления различных функций человеческого тела и ума, оказывающие воздействия на предмет труда. В частности, устная и письменная речь, мимика, познавательные процессы (внимание, память, воображение и т.д.). Это актер, переводчик, тренер, суддопереводчик)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Picture 5" descr="j0283505"/>
          <p:cNvPicPr/>
          <p:nvPr/>
        </p:nvPicPr>
        <p:blipFill>
          <a:blip r:embed="rId1"/>
          <a:stretch/>
        </p:blipFill>
        <p:spPr>
          <a:xfrm>
            <a:off x="7812000" y="836640"/>
            <a:ext cx="133200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j0295194"/>
          <p:cNvPicPr/>
          <p:nvPr/>
        </p:nvPicPr>
        <p:blipFill>
          <a:blip r:embed="rId2"/>
          <a:stretch/>
        </p:blipFill>
        <p:spPr>
          <a:xfrm>
            <a:off x="7740720" y="558972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95245"/>
          <p:cNvPicPr/>
          <p:nvPr/>
        </p:nvPicPr>
        <p:blipFill>
          <a:blip r:embed="rId3"/>
          <a:stretch/>
        </p:blipFill>
        <p:spPr>
          <a:xfrm>
            <a:off x="4211640" y="5661000"/>
            <a:ext cx="10573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спределите перечисленные орудия труда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ктор, лопата, телефон, лупа, весы, стиральная машина, фотоаппарат, рулетка, микрокалькулятор, автомобиль, зеркало, шпри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j0288870"/>
          <p:cNvPicPr/>
          <p:nvPr/>
        </p:nvPicPr>
        <p:blipFill>
          <a:blip r:embed="rId1"/>
          <a:stretch/>
        </p:blipFill>
        <p:spPr>
          <a:xfrm>
            <a:off x="6516720" y="4292640"/>
            <a:ext cx="1170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694b6"/>
                </a:solidFill>
                <a:latin typeface="Times New Roman"/>
              </a:rPr>
              <a:t>Условия труд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б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в обычных бытовых услов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на открытом воздух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в необычных услов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с повышенной моральной ответственностью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j0283011"/>
          <p:cNvPicPr/>
          <p:nvPr/>
        </p:nvPicPr>
        <p:blipFill>
          <a:blip r:embed="rId1"/>
          <a:stretch/>
        </p:blipFill>
        <p:spPr>
          <a:xfrm>
            <a:off x="6877080" y="765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j0303372"/>
          <p:cNvPicPr/>
          <p:nvPr/>
        </p:nvPicPr>
        <p:blipFill>
          <a:blip r:embed="rId2"/>
          <a:stretch/>
        </p:blipFill>
        <p:spPr>
          <a:xfrm>
            <a:off x="7451640" y="2276640"/>
            <a:ext cx="1219320" cy="952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234677"/>
          <p:cNvPicPr/>
          <p:nvPr/>
        </p:nvPicPr>
        <p:blipFill>
          <a:blip r:embed="rId3"/>
          <a:stretch/>
        </p:blipFill>
        <p:spPr>
          <a:xfrm>
            <a:off x="7991640" y="3357720"/>
            <a:ext cx="1152360" cy="117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j0283998"/>
          <p:cNvPicPr/>
          <p:nvPr/>
        </p:nvPicPr>
        <p:blipFill>
          <a:blip r:embed="rId4"/>
          <a:stretch/>
        </p:blipFill>
        <p:spPr>
          <a:xfrm>
            <a:off x="5867280" y="5157720"/>
            <a:ext cx="790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608960" cy="26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спределите данные профессии и специальности по группам таблицы, руководствуясь особенностями условий труда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, бухгалтер, водолаз, геолог, водитель автобуса, слесарь-сборщик, полевод, продавец промтоваров, монтажник-высотник, маляр, следователь, чертежни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j0288870"/>
          <p:cNvPicPr/>
          <p:nvPr/>
        </p:nvPicPr>
        <p:blipFill>
          <a:blip r:embed="rId1"/>
          <a:stretch/>
        </p:blipFill>
        <p:spPr>
          <a:xfrm>
            <a:off x="7596360" y="4653000"/>
            <a:ext cx="1114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549360"/>
            <a:ext cx="7620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ff"/>
                </a:solidFill>
                <a:latin typeface="Times New Roman"/>
              </a:rPr>
              <a:t>Характер работы</a:t>
            </a: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125000"/>
            <a:ext cx="76089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четко определена правилами, инструкциями, в ней практически нет новых, неожиданных проблемных ситуаций. Профессии: токарь, кассир, штукатур, фрезеровщ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Н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четко определена правилами, инструкциями, но иногда возникают внештатные ситуации, требующие принятия самостоятельных решений. Профессии: водитель, слесарь-ремонтник, оператор пульта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часто ставит перед человеком новые задачи, требующие от него постоянной активности и оригинальных решений. Профессии: художник-конструктор, инженер-исследователь, водитель, арти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рганизация труд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76201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выполняет свое дело самостоятельно от начала до конца. Профессии: композитор, художник, водитель, токарь, фотогра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а непосредственно зависит от процесса и результатов труда других людей, т.е. все члены коллектива одновременно осуществляют трудовые действия по созданию одного продукта. Профессии: слесарь-сборщик, сталевар, швея-мотористка, строите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Способы выполнения работ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6201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выполняет указания руководства, т.е. является исполнителем. Профессии: лаборант, секретарь, сторож, вах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амостоятельно организует собственную работу: планирует, распределяет рабочую нагрузку, изменяет способы выполнения работы. Профессии: водитель, врач, слесарь по ремонту автомобилей, токарь, парикмах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ует работу других людей. Профессии: учитель, инженер по технике безопасности, тренер, мастер по ремон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Ответствен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267920"/>
            <a:ext cx="7608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ьная (за сохранение имущества, оборудования, денег, продуктов). Профессии: бухгалтер, кассир, ювели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ральная (за воспитание людей, соблюдение законности, руководство людьми) Профессии: учитель, прокурор, суд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Ж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жизнь и здоровье людей, животных, растений. Профессии: врач, водитель пассажирского транспорта, животнов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900000" y="1413000"/>
          <a:ext cx="8221680" cy="4321080"/>
        </p:xfrm>
        <a:graphic>
          <a:graphicData uri="http://schemas.openxmlformats.org/drawingml/2006/table">
            <a:tbl>
              <a:tblPr/>
              <a:tblGrid>
                <a:gridCol w="1308240"/>
                <a:gridCol w="1643040"/>
                <a:gridCol w="1346040"/>
                <a:gridCol w="182880"/>
                <a:gridCol w="1125360"/>
                <a:gridCol w="1308240"/>
                <a:gridCol w="1307880"/>
              </a:tblGrid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в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ественный об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ност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ыскатель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дия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ины с ручным или ножным управл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изированное оборуд-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альные средства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товые 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ткрытом воздух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ычные 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 моральная ответств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Классификация профессий по Е.А. Климову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608960" cy="15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пределите вид ответственности для следующих профессии и специальностей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6201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ач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лицио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жа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8" descr="j0288870"/>
          <p:cNvPicPr/>
          <p:nvPr/>
        </p:nvPicPr>
        <p:blipFill>
          <a:blip r:embed="rId1"/>
          <a:stretch/>
        </p:blipFill>
        <p:spPr>
          <a:xfrm>
            <a:off x="6372360" y="3573360"/>
            <a:ext cx="1170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53768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Профессиография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это описание профессий и специальностей с точки зрения требований, предъявляемых к человеку. 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Профессиограмма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документ, представляющий собой описание социально-экономических, производственно-технических, санитарно-гигиенических, психологических и других особенностей профессии. 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Психограмма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характеристика требований, предъявляемых профессией к психике человека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8204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Times New Roman"/>
              </a:rPr>
              <a:t>Профотбор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2800" spc="-1" strike="noStrike">
                <a:solidFill>
                  <a:srgbClr val="221304"/>
                </a:solidFill>
                <a:latin typeface="Times New Roman"/>
              </a:rPr>
              <a:t>комплекс мероприятий, направленных на выделение лиц, которые по своим психологическим и физиологическим качествам, состоянию здоровья и физического развития, уровню базового образования наиболее пригодны к обучению и последующей трудовой деятельности по конкретной профессии (специальности).</a:t>
            </a:r>
            <a:br>
              <a:rPr sz="2800"/>
            </a:br>
            <a:r>
              <a:rPr b="1" lang="ru-RU" sz="2800" spc="-1" strike="noStrike" u="sng">
                <a:solidFill>
                  <a:srgbClr val="6600cc"/>
                </a:solidFill>
                <a:uFillTx/>
                <a:latin typeface="Times New Roman"/>
              </a:rPr>
              <a:t>Профориентация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– </a:t>
            </a:r>
            <a:r>
              <a:rPr b="0" i="1" lang="ru-RU" sz="2800" spc="-1" strike="noStrike">
                <a:solidFill>
                  <a:srgbClr val="221304"/>
                </a:solidFill>
                <a:latin typeface="Times New Roman"/>
              </a:rPr>
              <a:t>система мероприятий, призванная подготовить личность к общественно полезному труду, оказать ей помощь в выборе профессии в соответствии с интересами, склонностями и способностями личности и с учетом потребностей рынка труда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6089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99ff"/>
                </a:solidFill>
                <a:uFillTx/>
                <a:latin typeface="Times New Roman"/>
              </a:rPr>
              <a:t>Схема профессиограммы: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ая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характеристика профессии: содержание деятельности (предмет труда, цель труда, описание процесса труда, орудия и средства труда, условия труда, ответственность, характер работы, организация труда, способы выполнения работы, особенности профессиональной деятельности, пути получения проф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800" spc="-1" strike="noStrike">
                <a:solidFill>
                  <a:srgbClr val="3399ff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требования к индивидуальным особенностям специалиста (психограмма): умения, знания, способности, качества личности и т.д.</a:t>
            </a:r>
            <a:br>
              <a:rPr sz="2400"/>
            </a:br>
            <a:r>
              <a:rPr b="1" lang="ru-RU" sz="2800" spc="-1" strike="noStrike">
                <a:solidFill>
                  <a:srgbClr val="3399ff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медицинские противопоказания (с какими заболеваниями нельзя работать по этой профессии и какие профзаболевания можно получить, работая по этой профессии)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000080" y="500040"/>
          <a:ext cx="7715160" cy="5734080"/>
        </p:xfrm>
        <a:graphic>
          <a:graphicData uri="http://schemas.openxmlformats.org/drawingml/2006/table">
            <a:tbl>
              <a:tblPr/>
              <a:tblGrid>
                <a:gridCol w="7715160"/>
              </a:tblGrid>
              <a:tr h="61920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 професс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 Пряжникову Н.С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природа (животные, растени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материалы и заготовк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дет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взрослы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техник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знаковые системы (тексты, информация в компьютерах и т.п.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— художественный обра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0048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контроль, оценка, диагноз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преобразовате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изобретате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транспортирован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обслуживан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собственное разви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071720" y="357120"/>
          <a:ext cx="7500960" cy="62150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292752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ручные и простые приспособления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механ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автомат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функциональные (речь, мимика, зрение, слух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теоретические (знания, способы мышлени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переносные или стационарные сред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752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бытовой микроклимат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большие помещения с людьм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обычный производственный цех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необычные производственные условия (особый режим влажности,  температуры, стерильность)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экстремальные условия (риск для жизни и здоровь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работа на открытом воздух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— домашний кабинет, лаборатория, мастер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071720" y="500040"/>
          <a:ext cx="7500960" cy="60008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30002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подвижности в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преимущественно сид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преимущественно сто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множество разнообразных движени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длительная ходьб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вынужденные статичные поз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высокая избирательная подвижность определенных групп мыш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060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общения в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минимальное общение (индивидуальный труд)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клиенты, посетител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постоянный коллектив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работа с аудиторие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выраженная дисциплина, субординация в труд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небольшой коллектив в замкнутом пространстве (экипажи судов, полярники, участники экспедиц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00080" y="357120"/>
          <a:ext cx="7643880" cy="624204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195120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 в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материа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мора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за жизнь и здоровье люде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невыраженная ответств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08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возможность работы по совместительству знаменитост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большая официальная зарплат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льгот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«соблазны» (возможность брать взятки, воровать, использовать оборудование организации)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престижные отношени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встречи со знаменитостям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— частые загранкомандировк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— командировки по стран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— завершенный результат труда (можно полюбоватьс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— высокий престиж професси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— явно выраженная общественная полезность тру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76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Закодированные профессии </a:t>
            </a: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(по Пряжникову Н.С.)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сихолог: </a:t>
            </a:r>
            <a:br>
              <a:rPr sz="28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ети, взрослые;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контроль, оценка, диагноз, преобразовательная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функциональные, теоретические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бытовой микроклимат, домашний кабинет, лаборатория, мастерская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преимущественно сидя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клиенты, посетители, работа с аудиторией, постоянный коллектив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моральная, за жизнь и здоровье людей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явно выраженная общественная полезность труда.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Предмет труда</a:t>
            </a: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 – это то, на что направлена рабо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Природа (П)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живая природа, растительные и животные организмы, микроорганизм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j0283795"/>
          <p:cNvPicPr/>
          <p:nvPr/>
        </p:nvPicPr>
        <p:blipFill>
          <a:blip r:embed="rId1"/>
          <a:stretch/>
        </p:blipFill>
        <p:spPr>
          <a:xfrm>
            <a:off x="7667640" y="5516640"/>
            <a:ext cx="122544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284027"/>
          <p:cNvPicPr/>
          <p:nvPr/>
        </p:nvPicPr>
        <p:blipFill>
          <a:blip r:embed="rId2"/>
          <a:stretch/>
        </p:blipFill>
        <p:spPr>
          <a:xfrm>
            <a:off x="7596360" y="1773360"/>
            <a:ext cx="1223640" cy="107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37021"/>
          <p:cNvPicPr/>
          <p:nvPr/>
        </p:nvPicPr>
        <p:blipFill>
          <a:blip r:embed="rId3"/>
          <a:stretch/>
        </p:blipFill>
        <p:spPr>
          <a:xfrm>
            <a:off x="7885080" y="3716280"/>
            <a:ext cx="9349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Техника (Т)</a:t>
            </a:r>
            <a:r>
              <a:rPr b="0" lang="ru-RU" sz="4400" spc="-1" strike="noStrike">
                <a:solidFill>
                  <a:srgbClr val="6600cc"/>
                </a:solidFill>
                <a:latin typeface="Times New Roman"/>
              </a:rPr>
              <a:t> –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бслуживание техники, ремонт, установка, наладка, управление, производство и обработка металических и неметалических изделий, механическая сборка, монтаж и т.д.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Picture 4" descr="j0309754"/>
          <p:cNvPicPr/>
          <p:nvPr/>
        </p:nvPicPr>
        <p:blipFill>
          <a:blip r:embed="rId1"/>
          <a:stretch/>
        </p:blipFill>
        <p:spPr>
          <a:xfrm>
            <a:off x="7308720" y="5300640"/>
            <a:ext cx="1584360" cy="1212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j0297077"/>
          <p:cNvPicPr/>
          <p:nvPr/>
        </p:nvPicPr>
        <p:blipFill>
          <a:blip r:embed="rId2"/>
          <a:stretch/>
        </p:blipFill>
        <p:spPr>
          <a:xfrm>
            <a:off x="7524720" y="1125360"/>
            <a:ext cx="12254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Человек</a:t>
            </a: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</a:rPr>
              <a:t>(Ч)</a:t>
            </a: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221304"/>
                </a:solidFill>
                <a:latin typeface="Arial"/>
              </a:rPr>
              <a:t>воспитание, обучение, информирование, бытовое, торговое, медицинское обслужив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40004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j0285289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1209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0295157"/>
          <p:cNvPicPr/>
          <p:nvPr/>
        </p:nvPicPr>
        <p:blipFill>
          <a:blip r:embed="rId3"/>
          <a:stretch/>
        </p:blipFill>
        <p:spPr>
          <a:xfrm>
            <a:off x="1908000" y="5516640"/>
            <a:ext cx="1440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Художественные образы (ХО)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400" spc="-1" strike="noStrike">
                <a:solidFill>
                  <a:srgbClr val="221304"/>
                </a:solidFill>
                <a:latin typeface="Arial"/>
              </a:rPr>
              <a:t>деятельность направлена на создание, совершенствование, реставрацию, художественных образов, создаваемых с помощью разных изобразительных средств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Picture 4" descr="j0236298"/>
          <p:cNvPicPr/>
          <p:nvPr/>
        </p:nvPicPr>
        <p:blipFill>
          <a:blip r:embed="rId1"/>
          <a:stretch/>
        </p:blipFill>
        <p:spPr>
          <a:xfrm>
            <a:off x="7812000" y="2421000"/>
            <a:ext cx="1152720" cy="128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j0337017"/>
          <p:cNvPicPr/>
          <p:nvPr/>
        </p:nvPicPr>
        <p:blipFill>
          <a:blip r:embed="rId2"/>
          <a:stretch/>
        </p:blipFill>
        <p:spPr>
          <a:xfrm>
            <a:off x="468360" y="692280"/>
            <a:ext cx="1079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наковые системы (ЗС)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000" spc="-1" strike="noStrike">
                <a:solidFill>
                  <a:srgbClr val="221304"/>
                </a:solidFill>
                <a:latin typeface="Times New Roman"/>
              </a:rPr>
              <a:t>в этой деятельности преобладает работа с текстами, документами, различными базами данных, математическими выкладками. Это устная, письменная речь, химические и физические символы, цифры, ноты, схемы, карты, графики, дорожные знаки.</a:t>
            </a:r>
            <a:br>
              <a:rPr sz="40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Picture 16" descr=""/>
          <p:cNvPicPr/>
          <p:nvPr/>
        </p:nvPicPr>
        <p:blipFill>
          <a:blip r:embed="rId1"/>
          <a:stretch/>
        </p:blipFill>
        <p:spPr>
          <a:xfrm>
            <a:off x="7451640" y="5661000"/>
            <a:ext cx="1247760" cy="86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Цели труд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Гностические (Г)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узнать, распознать, проконтролировать, классифицировать, проверить по заранее известным признакам, оценивать, исследова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Преобразующие (Пр)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221304"/>
                </a:solidFill>
                <a:latin typeface="Times New Roman"/>
              </a:rPr>
              <a:t>профессии, которые подразумевают активное воздействие на предмет труда с целью изменения или, наоборот, сохранения свойств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6:11:37Z</dcterms:created>
  <dc:creator>Ярушева Ирина Валерьевна</dc:creator>
  <dc:description/>
  <dc:language>en-US</dc:language>
  <cp:lastModifiedBy>ирина</cp:lastModifiedBy>
  <dcterms:modified xsi:type="dcterms:W3CDTF">2010-12-18T09:58:52Z</dcterms:modified>
  <cp:revision>10</cp:revision>
  <dc:subject/>
  <dc:title>Классификация профессий Е.А. Климова </dc:title>
</cp:coreProperties>
</file>